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FCC-34BC-47C6-9C27-175B31BD6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7056-DCE3-4CDD-8BB5-B9DC30B6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B1E-A0A0-4823-884A-6A92E335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A71-074A-45C5-B111-E0754506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717A-ED98-42A2-A0D2-55BBCE9E4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AFC5-67AE-4914-A0A4-29A64986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D127-545A-4300-BEB0-A6E5AF58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C8A39-9018-47A3-B5FD-56CCF3EB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DA7BD-615E-49C9-ADE5-DB42ECF7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1D46-7A71-4BFD-8181-5BFA5688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70B7B-548B-4E99-A0E9-0574F64A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7063-8D79-4E8E-8983-06AE875E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08DF-561E-4132-B4C0-0B714FD7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534B-E4C6-4E31-9A0B-1366DEA8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73DA-61F8-4BFE-BD5D-B0B24AC5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93F6-874B-4E8D-BDB8-8E3A24D6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2CCDF-C330-4616-9ED2-D816FD67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D67B-2E12-44EE-A108-24BB85BBC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0515-73C4-4592-BCBD-D3F12A70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9101-BB9C-40A7-8A2C-01A6AE96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A26A-9A26-4CF2-8D32-FFC1E129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7A9-7167-452A-B33D-BC02752E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E40-7563-4954-B23E-98756FC6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E556-F065-4AC9-80CC-CBAB70A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63317-2376-498D-A944-9E0266481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D9F5-0EF6-4C5D-9ABE-04D02B152E3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2:51:36Z</dcterms:created>
  <dc:creator>一位心满意足的 Microsoft Office 用户</dc:creator>
  <dc:description/>
  <dc:language>en-US</dc:language>
  <cp:lastModifiedBy>HDF</cp:lastModifiedBy>
  <dcterms:modified xsi:type="dcterms:W3CDTF">2014-08-31T03:05:38Z</dcterms:modified>
  <cp:revision>33</cp:revision>
  <dc:subject/>
  <dc:title>在光的世界里</dc:title>
</cp:coreProperties>
</file>