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AFA6-F352-4EB0-9D51-F1801890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E10D-379B-47FB-B382-3D9D440E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2046-1CA3-491F-99DA-722C3E89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4274-8A7F-4CF3-B340-1FEA9BF4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B337-28E0-4B36-B808-50510D09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ED64-CEF9-4D39-8E7D-095D36A9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54C0-4529-4B00-8F58-60E95ACF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258C-1008-4542-B84E-0513E356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6E76-DFB1-4DE1-8C34-F5073866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A52F-8BD0-44B1-B612-0F6680E3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C58F-00E5-4E00-8FA2-52DC1BB2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CABF-7686-447D-9D3F-2DA86FC3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EC30-DB6F-4739-A1F7-B5905B0B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92E6-D1FE-47CB-A310-6F33FF03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60B6-BBD1-4B69-95B0-2C894200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76AA-8709-43B1-B4D5-F3A4F243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FDAA-D78A-4EC5-9723-7348853A8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9D63-EDE3-4006-956B-8F4C1480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762E-561E-4422-BD9D-C93DA3B7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75A2-3EA3-4209-B50C-B9B39B1C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719A-7A36-491A-8B8C-14356744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2072-D693-4FBD-82B2-D82568A2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9073-75C1-4DCF-AF0E-CDCE729A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9905-1095-4577-A86F-7493B642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1FDC-C510-4D1A-B6BD-73C9A8A7C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C0A4-B3C9-428E-BF24-FE08E713800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5T02:51:36Z</dcterms:created>
  <dc:creator>一位心满意足的 Microsoft Office 用户</dc:creator>
  <dc:description/>
  <dc:language>en-US</dc:language>
  <cp:lastModifiedBy>HDF</cp:lastModifiedBy>
  <dcterms:modified xsi:type="dcterms:W3CDTF">2014-08-31T03:05:38Z</dcterms:modified>
  <cp:revision>33</cp:revision>
  <dc:subject/>
  <dc:title>在光的世界里</dc:title>
</cp:coreProperties>
</file>