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545-B80A-4864-9EAA-997E253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1F3-FCCD-4C24-A3ED-CCD2ECD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B57-43C6-471E-839E-DB0D3837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B21-2EC9-4851-AE47-0F463D94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C04F-2293-4521-9389-EF5064CC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6A7-F8A9-4839-A1FF-9495991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4B7C-5221-40B9-AAB0-2C4390E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308D-744C-409B-9796-B89251F0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882C-6B2D-498F-BBA5-08D00928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CDA-2926-4D10-ADA9-F0A106E4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616-4BA2-4E5C-8719-CA70D62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A0F-3DFC-4AEC-A6CC-39320A2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A65-6747-4716-AB2A-2FF59C0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DA25-F3B3-46AD-923E-E4E24CD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D5C5-1DAA-4175-93C9-00AB425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7254-1D46-4287-B4A3-64717D56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560-4412-4BDF-99F2-E34A0165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8D5-C0D9-4030-9706-20FABFC3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23C-7EC2-4661-817D-EDFBF14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E62-6831-49DA-98C8-CEA89B2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CD7-13DF-4606-B9DA-A982DB74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C37-A7F3-403A-B625-23EE2F2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8F9-B3F9-4F96-A0A6-2183705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47F-FCC9-41B7-95CB-24D8E279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98C5-FFDB-4B6B-A6F9-68D46FEE7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0393-A0EC-43E1-8A00-3948B2023A1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2:51:36Z</dcterms:created>
  <dc:creator>一位心满意足的 Microsoft Office 用户</dc:creator>
  <dc:description/>
  <dc:language>en-US</dc:language>
  <cp:lastModifiedBy>HDF</cp:lastModifiedBy>
  <dcterms:modified xsi:type="dcterms:W3CDTF">2014-08-31T03:05:38Z</dcterms:modified>
  <cp:revision>33</cp:revision>
  <dc:subject/>
  <dc:title>在光的世界里</dc:title>
</cp:coreProperties>
</file>