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D2DF-59D9-451F-A352-A47E52BF6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7C11-AE68-4FD8-AE90-917C7C27B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81EC-3175-4EF5-8E7D-F2A7D1022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2DEB-D2F8-4909-92E8-97C0205ED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566C0-27D3-45F9-8539-761C3ECC8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8EAA3-51C0-4F2E-B450-819F36595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93B86-CE76-4A4A-82D5-DB5928251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73EC7-8997-4114-BF1A-DA5AE2550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004D3-E2AB-4EEA-938C-7CA9B2078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0E22C-8B32-46BA-BCB9-54352B784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62E07-F96C-49FC-8B0E-FC204941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9BA5-D4F1-4F45-9A3C-060C66763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34D05-4EF0-45A4-AEB2-9334EE49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475F6-322F-47AD-8BB3-667CC475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6F7D7-D5FE-4869-AF10-1E598E2CF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97C29-16BA-4790-99D2-CE94D0061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27940-1D51-4CA5-A31E-92AD52D04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FD50-D45F-4777-89A6-E1CB75990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95EF-C26E-4299-9ACD-0C8CB6107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726B-3B0D-44C5-B9CB-298A24E20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DDBE-5D00-4636-B485-5F5025700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D663-228D-48BD-A228-8C805318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965F-E9A7-4B6D-B073-F4E8A9A1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E349-1786-4571-9F78-FF2531A3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CF4F9-6788-4766-B640-403AF618D4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27AC4-7638-4F5A-A640-A7512AD49807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5T02:51:36Z</dcterms:created>
  <dc:creator>一位心满意足的 Microsoft Office 用户</dc:creator>
  <dc:description/>
  <dc:language>en-US</dc:language>
  <cp:lastModifiedBy>HDF</cp:lastModifiedBy>
  <dcterms:modified xsi:type="dcterms:W3CDTF">2014-08-31T03:05:38Z</dcterms:modified>
  <cp:revision>33</cp:revision>
  <dc:subject/>
  <dc:title>在光的世界里</dc:title>
</cp:coreProperties>
</file>