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E558-F9D0-4525-83D4-E240E015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721A-8A6B-4D0D-A9E7-CE029F58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2284-75A8-49CA-8A57-A1A2C571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915B-03A6-4E4C-AA27-B9A00653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5506-B805-4E68-BD70-141C6F5D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EF0E-0DF5-4270-8383-17254E4F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63FD-ADEB-4DF4-9DDE-FE5A15C2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0867-3A5E-4004-ACC6-B5EC542D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89F9-4F9C-43E6-8399-3C063C2E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9171-2C1D-492F-A70B-2F4B8DDD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B377-80A5-4B58-98B4-7975E937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49F9-C4B5-4E8D-AE60-29E4BB97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79CC-A013-4326-9E65-2B679358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C573-ECE8-47C1-B79E-B28319FC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BE38-C21C-4F7C-A9A7-E27E2786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D54E-7250-45CC-A62B-1B774C1A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5F1C-2520-4855-BADA-3B560CEC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D11-1D5D-4146-8FA2-F1852C98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4A1-5B9A-44E9-8966-A42A391B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D664-2059-46DA-91F3-6B7BA301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16F-C60E-4077-BF14-9FD7C495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76E-D370-47F3-B7E4-2D399AA5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9950-A932-4D5B-9B22-5BD3E063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FEF-B7C7-49DA-8169-7E598674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294F-E878-44F3-B40D-1A62B72C8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E910-288A-45EA-BC27-22477E01FC5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02:51:36Z</dcterms:created>
  <dc:creator>一位心满意足的 Microsoft Office 用户</dc:creator>
  <dc:description/>
  <dc:language>en-US</dc:language>
  <cp:lastModifiedBy>HDF</cp:lastModifiedBy>
  <dcterms:modified xsi:type="dcterms:W3CDTF">2014-08-31T03:05:38Z</dcterms:modified>
  <cp:revision>33</cp:revision>
  <dc:subject/>
  <dc:title>在光的世界里</dc:title>
</cp:coreProperties>
</file>